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F43-689C-4DFC-AEAD-6F342E29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053-0948-4F43-A437-D91BFC02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A62-7294-472F-A176-8D5ABB09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9B2-2CAC-4AA8-9A8C-2FB580DE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E7F-B4C3-4C8A-AD41-8B19E0CF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0C6-388F-41F0-BA46-7B84354B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0FD-901D-43AE-BD67-0929962F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73B-45BC-4089-A9A3-0DC7F01C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278-7742-4A48-9363-F0DBD719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5E9-3EA4-4FE7-83F7-916DFB25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1DA-F4FD-4218-97D3-0130FCC1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4F7-EA56-4CF0-BE86-B36A33E8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A3E1-7307-4AEC-A610-9920ECD1D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685800"/>
            <a:ext cx="63248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mpero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ja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429000"/>
            <a:ext cx="3429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Facts……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221004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48320" y="5437080"/>
            <a:ext cx="44956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omplis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23880" y="685800"/>
            <a:ext cx="63248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mpero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esar Augustu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429000"/>
            <a:ext cx="3429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Facts……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5437080"/>
            <a:ext cx="44956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omplis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18810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23880" y="685800"/>
            <a:ext cx="63248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mpero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er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429000"/>
            <a:ext cx="342900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*Facts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Facts……………………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5437080"/>
            <a:ext cx="44956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omplis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XXX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1576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Emperors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66880" y="1752480"/>
            <a:ext cx="3505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Rank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3:51Z</dcterms:created>
  <dc:creator>sramsey</dc:creator>
  <dc:description/>
  <dc:language>en-US</dc:language>
  <cp:lastModifiedBy>sramsey</cp:lastModifiedBy>
  <dcterms:modified xsi:type="dcterms:W3CDTF">2007-03-28T21:42:46Z</dcterms:modified>
  <cp:revision>3</cp:revision>
  <dc:subject/>
  <dc:title>Slide 1</dc:title>
</cp:coreProperties>
</file>